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EB3-66DD-4CAC-8602-BA86310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204-AA97-46C5-8B3E-7333598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5E6-CF70-4962-B44C-95440A82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01D-B86D-4F90-91C3-2720F8AC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D71-0DF7-4C7A-B39D-2D839EAB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795F-19F0-4418-8997-4F43609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78CE-7F13-41DA-859F-898ED67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B02A-FAC6-48FB-928C-ACAA72AA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8ADE-001B-4100-A6F2-9A297BE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082E-A5B8-4BD9-B601-C279F24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287-0C52-487B-B0C8-BF768DA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0F3-153F-449B-BAB9-B64E2A7F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7D8-BA3A-492B-8C53-44581A9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9593-2BD4-4682-854A-86217C5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4749-EBC8-4A2A-B786-8B2479D8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221B-A3AA-403D-9E1C-1C76CE1E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1F1B-1129-4188-9B87-5DEC894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D6DA-2778-4C41-A8F1-FF7BFA2C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0346E-B600-4D1E-80C6-498827F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7D10-23E2-4798-9B6E-0CFAA4B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67E0-963F-4CE1-9164-3B7F049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05A9-5656-4B34-AEB8-5642795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DFB-E91D-47B7-BB09-207DA22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0FF4-E3F8-46DC-B6B6-8F6901A0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4709-D4D5-4BD3-91D2-D7BA587C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E245-AB4A-48B6-A0B8-D52EE0F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A194-32C8-4F59-8F18-8CC9B93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B704-35DB-4275-A02B-57559BE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67FB-41AE-4701-A2C2-BF472BA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A6BB-BA39-4688-A0C5-E9A80C35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AAF0-C8CE-4483-BC2C-E15ED31C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1DFF9-A4FB-4D14-9EAB-657E7D5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AE47-9DF1-441C-B9BA-4EF7936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E4A-112A-4944-A680-763E155D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7809-A731-491C-9C19-5221A54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96ED-E623-4B77-B877-A799D30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C078-D30A-488B-8EDD-355AA5E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7CD8-EFD5-4A28-B4F2-E4D53C2A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60F8-CF87-4382-8B7B-A49AAFA0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ACF3-1D03-47E7-B20B-D3880DF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B017-DD4F-49CB-A7C7-8596A51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A3F7-8505-4FD2-B047-EDD0A232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8CDA-5817-4434-93B1-5F22048D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E188-1449-4169-9634-D9194553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090-45CF-4540-ABBF-E0BAB205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87B9-106F-4013-8B09-DBCCED3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630E-8D16-4A63-B097-C52615E2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59CB-7DC7-4C28-BA1F-1898F849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FE337-C6BE-4F5F-875B-AA8F2ED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7F29-FA19-4D37-9A72-86DBAD2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79B3-6E9A-4D10-A40D-546B0C1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C85B-47D3-45C5-89F2-87A8394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CC07-4129-4481-B044-06F6177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EC85-3BD9-40E7-B627-00027C7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B357-60F3-4A8F-98E1-946FA002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2A9-00BD-45EB-9012-8F73B94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5270-70B4-4FC0-B93C-8579C01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2938-BE59-4375-A73B-DC901C80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28B1-C4F6-487B-8CE9-2444B4AB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8C80-EE67-4A8D-A3B4-E512396D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7A1DC-4B01-4711-8F1C-646CDD3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4099-B7DE-4D57-8FEB-99550FA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67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C6C8-FE19-4457-A06A-82A617F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823B-4124-4394-A67B-66C835B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C4017-88EF-45CB-A830-C83E0EF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5D23E-5635-45C3-AAC0-A271206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278-BDAD-43C2-9C7E-192ABC8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992C-F31F-4C7D-9764-A6218E0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404C-3960-4591-A615-A7C05F5E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388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8120" y="25189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964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388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48120" y="4731120"/>
            <a:ext cx="29084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4F5D-0831-48BE-B48C-B3AAAE2D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160" y="47311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524-2C58-4EE7-8F80-CA84C0D2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160" y="2518920"/>
            <a:ext cx="440784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731120"/>
            <a:ext cx="9033120" cy="201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87E-1816-4BFB-8497-D4155F8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F941-D33F-4189-AD51-B8A730A1D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136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02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280" y="6318360"/>
            <a:ext cx="3213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3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4B4D-01F8-4075-9576-814F98EEB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366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670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670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670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298F1-DA49-4E64-9A47-2843FA04F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6360" y="6886440"/>
            <a:ext cx="23428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8700-FB51-4339-AD51-FCB15510002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62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99408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5340-B93D-444F-8451-0565DFECF7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703080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7030800"/>
            <a:ext cx="234504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AB10-703E-4514-AD54-5A5B1AC7A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19040"/>
            <a:ext cx="1008072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Presidential Issue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By: Aveon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201400" y="342900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0720" y="475920"/>
            <a:ext cx="8640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lackadder ITC"/>
              </a:rPr>
              <a:t>Economy and Jo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01440" y="2057400"/>
            <a:ext cx="412740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85560" indent="-2916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arack Obama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If he wasn't president everything would be a m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54400" y="1979640"/>
            <a:ext cx="412740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0000"/>
          </a:bodyPr>
          <a:p>
            <a:pPr marL="338760" indent="-254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Mitt Romney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760" indent="-254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that Obama  didn't do enough to create new jobs fo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760" indent="-254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Argues that the extra money would enable</a:t>
            </a:r>
            <a:r>
              <a:rPr b="0" lang="en-US" sz="4000" spc="-1" strike="noStrike">
                <a:solidFill>
                  <a:srgbClr val="ffffff"/>
                </a:solidFill>
                <a:latin typeface="Blackadder ITC"/>
                <a:ea typeface="Arial Unicode MS"/>
              </a:rPr>
              <a:t> companies to hire move wo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715000" y="571500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0720" y="583920"/>
            <a:ext cx="86392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Health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60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Obama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That he points out that he signed the Affordabl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The 2010 law  is  giving millions more access to the Affordable health c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Romney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Affordable Care Act is increase health care cost for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4800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315200" y="57150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1259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4000"/>
          </a:bodyPr>
          <a:p>
            <a:pPr marL="360000" indent="-27216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arack Obama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000" indent="-27216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He wants to cut taxes to make things much easy to buy with out people complai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51600" y="2165040"/>
            <a:ext cx="44258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Mitt Romney s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He wants to do the same as Barack Ob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400800" y="45720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War and National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5680" y="2001960"/>
            <a:ext cx="41259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77280" indent="-28512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Barack Obama say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280" indent="-28512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He wants to continue focusing defeating Al-Qaeda in Afghanistan and  Pak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42584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407160" indent="-3078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Mitt Romney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7160" indent="-30780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That military presence in Afghanistan and determine whether troops can be withdra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71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400800" y="52578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584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arack Obama th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The Dream Act a bill that would allow responsible young immigrants who came as children to earn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7800" y="2265480"/>
            <a:ext cx="442584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itt Romney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The same as Barack Obama said</a:t>
            </a:r>
            <a:r>
              <a:rPr b="0" lang="en-US" sz="32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400800" y="45720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0360" y="584280"/>
            <a:ext cx="86360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442584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arack Obama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Continue to encourage education reform through the R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600" y="2165040"/>
            <a:ext cx="44258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94200" indent="-29808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Mitt Romney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4200" indent="-298080">
              <a:lnSpc>
                <a:spcPct val="100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  <a:ea typeface="Arial Unicode MS"/>
              </a:rPr>
              <a:t>Shift some power from the federal level to the state level to empower govern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629400" y="5486400"/>
            <a:ext cx="3429000" cy="2058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4140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Resour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39640" y="2563920"/>
            <a:ext cx="903456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lackadder ITC"/>
              </a:rPr>
              <a:t>www.weeklyreader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lackadder ITC"/>
              </a:rPr>
              <a:t>www.nytime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02:28Z</dcterms:created>
  <dc:creator/>
  <dc:description/>
  <dc:language>en-US</dc:language>
  <cp:lastModifiedBy/>
  <cp:revision>0</cp:revision>
  <dc:subject/>
  <dc:title/>
</cp:coreProperties>
</file>